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FD2-A5A3-42A2-8A74-E3EE4FA0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C78-6422-4A6D-9540-F65D1952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11D-A85D-4277-AA5E-C9AA9FDF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EAC-A007-4034-9D24-CAB21878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FBE-AB66-4D58-9405-B0CD4EAA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5E7-D6F1-467A-B49E-B8CF490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7D5-9E0D-4B36-816C-E696E837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5D5-AB32-4CAD-87F4-E7911AC4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957-F65D-4478-A497-CE685E6E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3B3-FCAD-47E5-820E-EA67E00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79F-C171-4471-9901-A6C64AFB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4A3-011B-49DB-87A3-E525AF33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A0C9-433C-4916-A034-2ACD129293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814920" y="1628640"/>
            <a:ext cx="757080" cy="755640"/>
            <a:chOff x="381492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81492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4740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16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Oliver Mochmann</cp:lastModifiedBy>
  <dcterms:modified xsi:type="dcterms:W3CDTF">2005-07-08T16:35:00Z</dcterms:modified>
  <cp:revision>17</cp:revision>
  <dc:subject/>
  <dc:title>Folie 1</dc:title>
</cp:coreProperties>
</file>